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34133-16D3-4E2D-A8CC-99090291A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71206-956D-43B6-BFD5-919D02B6E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70FD3-DB7C-4422-93B4-5CE178CED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804B6-07E5-4B3C-B3FD-33A7C97B0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14E20-A52F-4666-B6CC-BDB7E8281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03C27-4F9F-4FB7-8EEA-C99A356EE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F1616-AA1C-496E-B0F1-A5DDC93D9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AB004-BB37-4B0E-9492-AC0B23A82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6BCB8-796A-4809-805D-B1FBC0C54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3327D-C3D2-4A98-BD9B-6D95B92D7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8AE62-8585-49B9-8188-5DA4A57D2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6A722-7E2E-43A6-A19F-0AFBE1973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0E13F-AE46-494B-93C9-7D4AD85B1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42F38-413C-4A4D-BAED-9543FD156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50729-E822-4253-9BE9-727EE5EFB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904DD-1B24-46BF-A68D-B2DA28B55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30DC6-70AB-44DE-A8AC-DF55EBC9E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4DF658C-58A0-4CCE-A500-EFBB208FD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59DD584-38AD-4B44-8E8D-508E8CBC0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687E55-1518-41C3-86BE-BFBED960B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3E46D4C-5D04-4668-AD6F-A90F04AF2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73C13F5-F580-4FAA-868E-A36AE2F91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F57D7-172A-4A79-AE52-F43523BD6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72BD8C4-8F63-4121-A2DA-4476461EE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439CAAF-F4FB-465B-B709-D2BD77681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7C9918B-A3D0-46A8-9F40-1581DB0B9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220F900-0999-4BE1-83C0-ED0425176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F6419D2-73D9-4AF7-AAA1-0B67EB375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2E5BF90-9EB2-4367-87AE-CADED6D38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2FD352D-4271-4444-879D-CF925265C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671A18-E3E7-404E-B42A-9A20B74EB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044235-103B-474F-B0ED-66E8301B6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C094E3-ED1B-419A-A127-9CA687D47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1EFA7-5B9D-4E8C-86F9-95D9F5AFD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D609B6-E9C4-4D20-99D4-E7538CC4A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13C2C5-DCC9-4950-A254-4C35976F5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DEF091-845C-43C4-89E0-7531ED6F3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95535A-85CD-4889-941C-D3030C8D2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BD6744-858D-49AD-AA4F-90CF70DFF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757C0A-8C62-4115-B4F5-E940452E1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2E4D8E-1719-445C-B621-D07C86475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EA67BA-4DAA-4367-968B-5FEA69A81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30C61A-9DDD-49B2-B409-9EEBE7760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0AFBC-8FA3-4F79-A27A-18EA961C9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37072-222F-4E24-98B7-20DECB5BC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BA327-BC2B-42A1-917D-65D530CDC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F7616-2FC7-4B89-8D6A-3E23C85E5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F394F-CC3C-437D-9733-01B5A353F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A9C02-A2E7-41EC-957E-EAE6B96759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Arial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2BD8D-7719-43F8-8FB2-53BC97D45D8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Прямоугольник 6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Прямоугольник 7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оугольник 8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Прямоугольник 9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рямоугольник 10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Скругленный прямоугольник 11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Скругленный прямоугольник 12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оугольник 13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14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рямоугольник 15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оугольник 16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рямоугольник 17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18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Arial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618D9-B1DE-42E7-A2F1-D4B278CC1A1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Прямоугольник 6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Прямоугольник 7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Прямоугольник 8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оугольник 9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Прямоугольник 10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Скругленный прямоугольник 11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Скругленный прямоугольник 12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Прямоугольник 13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Прямоугольник 14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Прямоугольник 15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рямоугольник 16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Прямоугольник 17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Прямоугольник 18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Arial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AC860-1B0D-4845-8D23-06664CD155D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468360" y="1844640"/>
            <a:ext cx="842472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cc0000"/>
                </a:solidFill>
                <a:latin typeface="Arial"/>
              </a:rPr>
              <a:t>РАЗДЕЛ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633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«ПАТОЛОГИЧЕСКАЯ АНАТОМИЯ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336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cc0000"/>
                </a:solidFill>
                <a:latin typeface="Arial"/>
              </a:rPr>
              <a:t>ФОРМЫ: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6336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cc0000"/>
                </a:solidFill>
                <a:latin typeface="Arial"/>
              </a:rPr>
              <a:t>14 и 30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Таблица 3" descr=""/>
          <p:cNvPicPr/>
          <p:nvPr/>
        </p:nvPicPr>
        <p:blipFill>
          <a:blip r:embed="rId1"/>
          <a:stretch/>
        </p:blipFill>
        <p:spPr>
          <a:xfrm>
            <a:off x="281160" y="1292400"/>
            <a:ext cx="8581680" cy="3865320"/>
          </a:xfrm>
          <a:prstGeom prst="rect">
            <a:avLst/>
          </a:prstGeom>
          <a:ln w="0">
            <a:noFill/>
          </a:ln>
        </p:spPr>
      </p:pic>
      <p:sp>
        <p:nvSpPr>
          <p:cNvPr id="212" name="Rectangle 1"/>
          <p:cNvSpPr/>
          <p:nvPr/>
        </p:nvSpPr>
        <p:spPr>
          <a:xfrm>
            <a:off x="0" y="-4680"/>
            <a:ext cx="914400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Arial"/>
                <a:ea typeface="Times New Roman"/>
              </a:rPr>
              <a:t>Структура прижизненных патологоанатомических и цитологических диагностических исследований по категориям слож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Arial"/>
                <a:ea typeface="Times New Roman"/>
              </a:rPr>
              <a:t>             </a:t>
            </a:r>
            <a:r>
              <a:rPr b="1" lang="ru-RU" sz="2400" spc="-1" strike="noStrike">
                <a:solidFill>
                  <a:srgbClr val="cc0000"/>
                </a:solidFill>
                <a:latin typeface="Arial"/>
                <a:ea typeface="Times New Roman"/>
              </a:rPr>
              <a:t>(5501</a:t>
            </a: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 – НЕ ЗАПОЛНЯТЬ!!!</a:t>
            </a:r>
            <a:r>
              <a:rPr b="1" lang="ru-RU" sz="2400" spc="-1" strike="noStrike">
                <a:solidFill>
                  <a:srgbClr val="cc0000"/>
                </a:solidFill>
                <a:latin typeface="Arial"/>
                <a:ea typeface="Times New Roman"/>
              </a:rPr>
              <a:t>)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                    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                                                  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2"/>
          <p:cNvSpPr/>
          <p:nvPr/>
        </p:nvSpPr>
        <p:spPr>
          <a:xfrm>
            <a:off x="142920" y="5667480"/>
            <a:ext cx="9001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6"/>
          <p:cNvSpPr/>
          <p:nvPr/>
        </p:nvSpPr>
        <p:spPr>
          <a:xfrm>
            <a:off x="395280" y="1197000"/>
            <a:ext cx="7777080" cy="388764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7"/>
          <p:cNvSpPr/>
          <p:nvPr/>
        </p:nvSpPr>
        <p:spPr>
          <a:xfrm flipH="1">
            <a:off x="684360" y="1197000"/>
            <a:ext cx="7991280" cy="388764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45720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990000"/>
                </a:solidFill>
                <a:uFillTx/>
                <a:latin typeface="Arial"/>
              </a:rPr>
              <a:t>(5502 и 5505)</a:t>
            </a:r>
            <a:r>
              <a:rPr b="0" lang="en-US" sz="3600" spc="-1" strike="noStrike" u="sng">
                <a:solidFill>
                  <a:srgbClr val="990000"/>
                </a:solidFill>
                <a:uFillTx/>
                <a:latin typeface="Arial"/>
              </a:rPr>
              <a:t> </a:t>
            </a:r>
            <a:r>
              <a:rPr b="0" lang="en-US" sz="3600" spc="-1" strike="noStrike" u="sng">
                <a:solidFill>
                  <a:srgbClr val="990000"/>
                </a:solidFill>
                <a:uFillTx/>
                <a:latin typeface="Arial"/>
              </a:rPr>
              <a:t>	</a:t>
            </a:r>
            <a:r>
              <a:rPr b="1" lang="en-US" sz="3600" spc="-1" strike="noStrike" u="sng">
                <a:solidFill>
                  <a:srgbClr val="990000"/>
                </a:solidFill>
                <a:uFillTx/>
                <a:latin typeface="Arial"/>
              </a:rPr>
              <a:t>- ЗАПОЛНЯТЬ!!!!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оды по ОКЕИ:   единица – 64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12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Число обслуживаемых медицинских организаций по исследованиям биопсийного и операционного материала 1 __________ , из них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12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едицинских организаций, оказывающих медицинскую помощь в амбулаторных условиях 2 __________ 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12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число обслуживаемых медицинских организаций по исследованиям цитологического материала 3 ___________ ,  из них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12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едицинских организаций, оказывающих медицинскую помощь в амбулаторных условиях 4 __________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785440" cy="15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Arial"/>
              </a:rPr>
              <a:t>Форма 30, таблица 5503</a:t>
            </a:r>
            <a:br>
              <a:rPr sz="3600"/>
            </a:b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«посмертные патологоанатомические исследования (вскрытия)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58560" y="1915920"/>
            <a:ext cx="878508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Заполняется строго на основе проведенных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 u="sng">
                <a:solidFill>
                  <a:srgbClr val="990000"/>
                </a:solidFill>
                <a:uFillTx/>
                <a:latin typeface="Arial"/>
              </a:rPr>
              <a:t>патологоанатомических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2800" spc="-1" strike="noStrike" u="sng">
                <a:solidFill>
                  <a:srgbClr val="990000"/>
                </a:solidFill>
                <a:uFillTx/>
                <a:latin typeface="Arial"/>
              </a:rPr>
              <a:t>вскрытий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 разбивкой по категориям сложности: на мониторинге МЗ ЗК 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риказ № 601 от 06.12.2017 г. «О совершенствовании организации посмертного патологоанатомического исследования (вскрытия) в медицинских организациях Забайкальского края» - утверждён перечень категорий сложности патологоанатомических вскрыти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9" name=""/>
          <p:cNvGraphicFramePr/>
          <p:nvPr/>
        </p:nvGraphicFramePr>
        <p:xfrm>
          <a:off x="179280" y="260280"/>
          <a:ext cx="8721720" cy="6621480"/>
        </p:xfrm>
        <a:graphic>
          <a:graphicData uri="http://schemas.openxmlformats.org/drawingml/2006/table">
            <a:tbl>
              <a:tblPr/>
              <a:tblGrid>
                <a:gridCol w="4184640"/>
                <a:gridCol w="514440"/>
                <a:gridCol w="515880"/>
                <a:gridCol w="488880"/>
                <a:gridCol w="489240"/>
                <a:gridCol w="487080"/>
                <a:gridCol w="490680"/>
                <a:gridCol w="485640"/>
                <a:gridCol w="1065240"/>
              </a:tblGrid>
              <a:tr h="547920">
                <a:tc rowSpan="2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показател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тологоанатомические вскрыт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категориям сложности (из графы 3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из гр.3 умерл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вне медицинских организаций, оказывающих медицинскую помощь в стационарных условия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880"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43560" rIns="435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Число патологоанатомических вскрытий, 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65400">
                <a:tc>
                  <a:txBody>
                    <a:bodyPr lIns="43560" rIns="43560" tIns="0" bIns="0" anchor="t">
                      <a:noAutofit/>
                    </a:bodyPr>
                    <a:p>
                      <a:pPr marL="1080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80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ши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47920">
                <a:tc>
                  <a:txBody>
                    <a:bodyPr lIns="43560" rIns="43560" tIns="0" bIns="0" anchor="t">
                      <a:noAutofit/>
                    </a:bodyPr>
                    <a:p>
                      <a:pPr marL="1080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80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 (0–17 лет включительно)                                 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43560" rIns="43560" tIns="0" bIns="0" anchor="t">
                      <a:noAutofit/>
                    </a:bodyPr>
                    <a:p>
                      <a:pPr marL="179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ворожденных, умерших в возрасте 0–6 суто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43560" rIns="43560" tIns="0" bIns="0" anchor="ctr">
                      <a:noAutofit/>
                    </a:bodyPr>
                    <a:p>
                      <a:pPr marL="179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родившихся в срок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ременности 22-27 недел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43560" rIns="43560" tIns="0" bIns="0" anchor="ctr">
                      <a:noAutofit/>
                    </a:bodyPr>
                    <a:p>
                      <a:pPr marL="179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, умерших в возрасте 7 дней – 11 месяцев 29 дн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43560" rIns="43560" tIns="0" bIns="0" anchor="ctr">
                      <a:noAutofit/>
                    </a:bodyPr>
                    <a:p>
                      <a:pPr marL="179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, умерших в возрасте 1–4 года включитель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43560" rIns="43560" tIns="0" bIns="0" anchor="ctr">
                      <a:noAutofit/>
                    </a:bodyPr>
                    <a:p>
                      <a:pPr marL="179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, умерших в возрасте 5–14 лет включитель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43560" rIns="43560" tIns="0" bIns="0" anchor="ctr">
                      <a:noAutofit/>
                    </a:bodyPr>
                    <a:p>
                      <a:pPr marL="179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, умерших в возрасте 15–17 лет включитель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43560" rIns="435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лиц в трудоспособном возрасте (жен.: 18–54 г. включительно;  муж.: 18–59 лет включительно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43560" rIns="435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лиц в возрасте старше трудоспособно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43560" rIns="435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1" lang="en-US" sz="12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мертворожденны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65400"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мертворожденных при сроке беременности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–27 недел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оды на сроке менее 22 недель беременно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220" name="Oval 178"/>
          <p:cNvSpPr/>
          <p:nvPr/>
        </p:nvSpPr>
        <p:spPr>
          <a:xfrm>
            <a:off x="4427640" y="2060640"/>
            <a:ext cx="360360" cy="288720"/>
          </a:xfrm>
          <a:prstGeom prst="ellipse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Oval 179"/>
          <p:cNvSpPr/>
          <p:nvPr/>
        </p:nvSpPr>
        <p:spPr>
          <a:xfrm>
            <a:off x="4427640" y="2421000"/>
            <a:ext cx="360360" cy="287280"/>
          </a:xfrm>
          <a:prstGeom prst="ellipse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Oval 180"/>
          <p:cNvSpPr/>
          <p:nvPr/>
        </p:nvSpPr>
        <p:spPr>
          <a:xfrm flipV="1">
            <a:off x="4427640" y="6524640"/>
            <a:ext cx="369720" cy="333360"/>
          </a:xfrm>
          <a:prstGeom prst="ellipse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Oval 181"/>
          <p:cNvSpPr/>
          <p:nvPr/>
        </p:nvSpPr>
        <p:spPr>
          <a:xfrm>
            <a:off x="4427640" y="5877000"/>
            <a:ext cx="360360" cy="217440"/>
          </a:xfrm>
          <a:prstGeom prst="ellipse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Чтобы заполнить таблицу №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5503 и ф. 14</a:t>
            </a: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 </a:t>
            </a:r>
            <a:br>
              <a:rPr sz="4400"/>
            </a:b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Вам НЕОБХОДИМ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78920" y="1413000"/>
            <a:ext cx="87138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Составить списки умерших с градаци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для Вашего удобства в работе – лучше в форме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аблицы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по возрастной группе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трудоспособный, не трудоспособный,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ети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по классам МКБ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по наличию/отсутствию патологоанатомического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скрытия с указанием сличения диагнозов и      категории сложности каждой аутопс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 составленным спискам -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ЗАБЛАГОВРЕМЕННО сверить данные по вскрытиям с         ПАТОЛОГОАНАТОМАМИ !!!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cc0000"/>
                </a:solidFill>
                <a:uFillTx/>
                <a:latin typeface="Arial"/>
              </a:rPr>
              <a:t>Например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аблица № 1. Трудоспособный возрас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457200" y="1484280"/>
          <a:ext cx="8229600" cy="5181480"/>
        </p:xfrm>
        <a:graphic>
          <a:graphicData uri="http://schemas.openxmlformats.org/drawingml/2006/table">
            <a:tbl>
              <a:tblPr/>
              <a:tblGrid>
                <a:gridCol w="442800"/>
                <a:gridCol w="1584360"/>
                <a:gridCol w="1150920"/>
                <a:gridCol w="1368360"/>
                <a:gridCol w="2232360"/>
                <a:gridCol w="1450800"/>
              </a:tblGrid>
              <a:tr h="168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№ </a:t>
                      </a: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п/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Ф.И.О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умершег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Возрас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Вскрыт /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без вскрыт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Код МКБ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Диагно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(кратко!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Сличение диагнозов/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Категория сложнос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Иванов Павел Петрови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 л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скры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ПАЛ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15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вусторонняя пневмония не уточненной этиологии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cc0000"/>
                          </a:solidFill>
                          <a:latin typeface="Arial"/>
                          <a:ea typeface="Arial"/>
                        </a:rPr>
                        <a:t>Расхождение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V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категория сложности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Турков Иван Семенович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9 л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Бе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скрыт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 8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еходжкинская лимфома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----------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Исаева Анна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асильев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 л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МЭ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вскрыта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Щифр МКБ 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Тупая травма живота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----------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cc0000"/>
                </a:solidFill>
                <a:uFillTx/>
                <a:latin typeface="Arial"/>
              </a:rPr>
              <a:t>Например: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Таблица № 2. Не трудоспособный возрас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457200" y="1600200"/>
          <a:ext cx="8229600" cy="5102280"/>
        </p:xfrm>
        <a:graphic>
          <a:graphicData uri="http://schemas.openxmlformats.org/drawingml/2006/table">
            <a:tbl>
              <a:tblPr/>
              <a:tblGrid>
                <a:gridCol w="442800"/>
                <a:gridCol w="1584360"/>
                <a:gridCol w="1150920"/>
                <a:gridCol w="1368360"/>
                <a:gridCol w="2232360"/>
                <a:gridCol w="1450800"/>
              </a:tblGrid>
              <a:tr h="168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№ </a:t>
                      </a: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п/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Ф.И.О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умершег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Возрас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Вскрыт /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без вскрыт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Код МКБ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Диагно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(кратко!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Сличение диагнозов/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Категория сложнос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асин Павел Иванович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 л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скры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ПАЛ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15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вусторонняя пневмония не уточненной этиологи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cc0000"/>
                          </a:solidFill>
                          <a:latin typeface="Arial"/>
                          <a:ea typeface="Arial"/>
                        </a:rPr>
                        <a:t>Совпале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V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категория сложности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4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етрова Ирина Семеновн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9 л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Бе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скрыт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овторный ишемический инсульт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----------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озлов Петр Петрович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 го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М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вскрыт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Щифр МКБ 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ножественные ножевые ранения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----------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250560" y="0"/>
            <a:ext cx="8435880" cy="645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990000"/>
                </a:solidFill>
                <a:uFillTx/>
                <a:latin typeface="Arial"/>
              </a:rPr>
              <a:t>Таблица 2402 – умершие на дому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179280" y="836640"/>
          <a:ext cx="8785440" cy="5789520"/>
        </p:xfrm>
        <a:graphic>
          <a:graphicData uri="http://schemas.openxmlformats.org/drawingml/2006/table">
            <a:tbl>
              <a:tblPr/>
              <a:tblGrid>
                <a:gridCol w="1297080"/>
                <a:gridCol w="828720"/>
                <a:gridCol w="1063440"/>
                <a:gridCol w="1062360"/>
                <a:gridCol w="1063440"/>
                <a:gridCol w="1062000"/>
                <a:gridCol w="1111320"/>
                <a:gridCol w="1297080"/>
              </a:tblGrid>
              <a:tr h="6796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именова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ро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ель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жител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атологоанато-мические вскрыт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из графы  3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дебно-медицинские вскрыт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схожд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схожд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мершие на дому 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т.ч. де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ти до 1 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рудоспосо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ы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арше трудоспособно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 числа умерших на дому: пациенты трудоспособного возраста* умерли от: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трых цереброваскуля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ых заболевание (160-164 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 острого инфаркта миокарда (121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Arial"/>
              </a:rPr>
              <a:t>КОНТАКТЫ </a:t>
            </a: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(в течение рабочего дня)</a:t>
            </a:r>
            <a:r>
              <a:rPr b="1" lang="en-US" sz="3600" spc="-1" strike="noStrike">
                <a:solidFill>
                  <a:srgbClr val="990000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50560" y="1125000"/>
            <a:ext cx="87138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ведующая отделением общей и инфекционной патологии (г. Чита) – Гончарова Марина Александровна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1-43-02; 8-914-490-90-98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етский сектор (г. Чита) – Золотухина Анастасия Олего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1-42-98; 8-914-464-71-54.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раснокаменское ПаО – Шлапаков Вадим Викторович и Плакущая Надежда Владимировна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8-914-502-34-94; 8-914-145-23-76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ведующая Первомайским ПаО – Старнавская Наталья Николаевн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8-914-512-42-1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cc0000"/>
                </a:solidFill>
                <a:uFillTx/>
                <a:latin typeface="Arial"/>
              </a:rPr>
              <a:t>ФОРМА 14</a:t>
            </a:r>
            <a:br>
              <a:rPr sz="28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.СОСТАВ БОЛЬНЫХ В СТАЦИОНАРЕ, СРОКИ И ИСХОДЫ ЛЕЧЕНИЯ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столбцы № 8; 9 и 10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По классам МКБ-Х необходимо заполнить три табличных формы (2000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Взрослый возраст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18 лет и старше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Не трудоспособный возраст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женщины 55 дет, мужчины 60 лет и старше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Дет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от 0 до 17 лет включитель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cc0000"/>
                </a:solidFill>
                <a:uFillTx/>
                <a:latin typeface="Arial"/>
              </a:rPr>
              <a:t>ФОРМА 14</a:t>
            </a:r>
            <a:br>
              <a:rPr sz="28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.СОСТАВ БОЛЬНЫХ В СТАЦИОНАРЕ, СРОКИ И ИСХОДЫ ЛЕЧЕНИЯ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столбцы № 8; 9 и 10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0" y="1628280"/>
            <a:ext cx="9144000" cy="508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12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Столбец № 8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умерло ВСЕГО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 классам МКБ-10 показываем всю летальность, наступившую в стационаре,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включая классы «внешние причины смерти» (СМЭ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12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Столбец № 9: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проведено патологоанатомических вскрытий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 классам МКБ показываем умерших,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подвергнутых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 ПАТОЛОГОАНАТОМИЧЕСКОМУ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вскрытию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!!!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Не включая умерших от «внешних причин смерти» (СМЭ!!!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12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Столбец № 10: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установлено расхождений диагнозов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 по классам МКБ - количество расхождений (без учёта категории расхождения диагноза),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из числа умерших, подвергнутых патологоанатомическому вскрыти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5" name=""/>
          <p:cNvGraphicFramePr/>
          <p:nvPr/>
        </p:nvGraphicFramePr>
        <p:xfrm>
          <a:off x="179280" y="620640"/>
          <a:ext cx="8785440" cy="5924520"/>
        </p:xfrm>
        <a:graphic>
          <a:graphicData uri="http://schemas.openxmlformats.org/drawingml/2006/table">
            <a:tbl>
              <a:tblPr/>
              <a:tblGrid>
                <a:gridCol w="3246480"/>
                <a:gridCol w="924120"/>
                <a:gridCol w="1019160"/>
                <a:gridCol w="988920"/>
                <a:gridCol w="1373040"/>
                <a:gridCol w="1233720"/>
              </a:tblGrid>
              <a:tr h="142920">
                <a:tc rowSpan="4"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болезн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МКБ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пересмотр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. </a:t>
                      </a:r>
                      <a:r>
                        <a:rPr b="0" lang="en-US" sz="12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Взрослые 18 лет и старш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4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03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12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тологоанато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чески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крыт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тановле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хожден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агноз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000"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040">
                <a:tc>
                  <a:txBody>
                    <a:bodyPr lIns="64800" rIns="64800" tIns="0" bIns="0" anchor="ctr">
                      <a:noAutofit/>
                    </a:bodyPr>
                    <a:p>
                      <a:pPr>
                        <a:lnSpc>
                          <a:spcPts val="899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0000"/>
                          </a:solidFill>
                          <a:latin typeface="Times New Roman"/>
                          <a:ea typeface="Arial"/>
                        </a:rPr>
                        <a:t>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А00-Т9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64800" rIns="64800" tIns="0" bIns="0" anchor="ctr">
                      <a:noAutofit/>
                    </a:bodyPr>
                    <a:p>
                      <a:pPr marL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некоторые инфекционные и паразитарные болезн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00-В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64800" rIns="64800" tIns="0" bIns="0" anchor="ctr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ишечные инфек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00-А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560">
                <a:tc>
                  <a:txBody>
                    <a:bodyPr lIns="64800" rIns="64800" tIns="0" bIns="0" anchor="ctr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уберкулез органов дых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15-A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200">
                <a:tc>
                  <a:txBody>
                    <a:bodyPr lIns="64800" rIns="64800" tIns="0" bIns="0" anchor="ctr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нингококковая инфекц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214200">
                <a:tc>
                  <a:txBody>
                    <a:bodyPr lIns="64800" rIns="64800" tIns="0" bIns="0" anchor="ctr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пси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40-A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64800" rIns="64800" tIns="0" bIns="0" anchor="ctr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фекции, передающиеся преимущественно половым путе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50-А6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200">
                <a:tc>
                  <a:txBody>
                    <a:bodyPr lIns="64800" rIns="64800" tIns="0" bIns="0" anchor="ctr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трый полиомиели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560">
                <a:tc>
                  <a:txBody>
                    <a:bodyPr lIns="64800" rIns="64800" tIns="0" bIns="0" anchor="ctr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русный гепати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15-В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200">
                <a:tc>
                  <a:txBody>
                    <a:bodyPr lIns="64800" rIns="64800" tIns="0" bIns="0" anchor="ctr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ь, вызванная ВИЧ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20-В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244440">
                <a:tc>
                  <a:txBody>
                    <a:bodyPr lIns="64800" rIns="64800" tIns="0" bIns="0" anchor="ctr">
                      <a:noAutofit/>
                    </a:bodyPr>
                    <a:p>
                      <a:pPr marL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новообразов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00-D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64800" rIns="64800" tIns="0" bIns="0" anchor="ctr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локачественные новообразов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00-С9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64800" rIns="64800" tIns="0" bIns="0" anchor="ctr">
                      <a:noAutofit/>
                    </a:bodyPr>
                    <a:p>
                      <a:pPr marL="8892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892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локачественные новообразования  ли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892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идной, кроветворной и родственны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892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 ткан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1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81-С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64800" rIns="64800" tIns="0" bIns="0" anchor="ctr">
                      <a:noAutofit/>
                    </a:bodyPr>
                    <a:p>
                      <a:pPr marL="17928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лликулярная (нодулярная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ходжкинская лимфом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1.1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8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64800" rIns="64800" tIns="0" bIns="0" anchor="ctr">
                      <a:noAutofit/>
                    </a:bodyPr>
                    <a:p>
                      <a:pPr marL="17928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лкоклеточная (диффузная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ходжкинская лимфом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1.1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83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6" name="Rectangle 1"/>
          <p:cNvSpPr/>
          <p:nvPr/>
        </p:nvSpPr>
        <p:spPr>
          <a:xfrm>
            <a:off x="179280" y="112680"/>
            <a:ext cx="8572680" cy="5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32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РОСЛЫЙ ВОЗРАСТ – СТАЦИОНАРНАЯ ЛЕТАЛЬНОСТЬ   (</a:t>
            </a:r>
            <a:r>
              <a:rPr b="1" lang="en-US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2000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16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                                                                     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1"/>
          <p:cNvSpPr/>
          <p:nvPr/>
        </p:nvSpPr>
        <p:spPr>
          <a:xfrm>
            <a:off x="684360" y="201240"/>
            <a:ext cx="7786440" cy="38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32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НЕ</a:t>
            </a:r>
            <a:r>
              <a:rPr b="1" lang="ru-RU" sz="12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 Unicode MS"/>
              </a:rPr>
              <a:t>ТРУДОСПОСОБНЫЙ ВОЗРАСТ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(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2000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179280" y="836640"/>
          <a:ext cx="8713800" cy="5837040"/>
        </p:xfrm>
        <a:graphic>
          <a:graphicData uri="http://schemas.openxmlformats.org/drawingml/2006/table">
            <a:tbl>
              <a:tblPr/>
              <a:tblGrid>
                <a:gridCol w="3221280"/>
                <a:gridCol w="914400"/>
                <a:gridCol w="1012680"/>
                <a:gridCol w="981000"/>
                <a:gridCol w="1362240"/>
                <a:gridCol w="1222200"/>
              </a:tblGrid>
              <a:tr h="404640">
                <a:tc rowSpan="4"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болезн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МКБ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пересмотр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. Взрослые  старше  трудоспособного возраст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1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(с 55 лет у женщин и с 60 лет у мужчин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7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1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0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тологоанато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чески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крыти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тановлен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хождени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агнозов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800"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">
                <a:tc>
                  <a:txBody>
                    <a:bodyPr lIns="42480" rIns="42480" tIns="0" bIns="0" anchor="ctr">
                      <a:noAutofit/>
                    </a:bodyPr>
                    <a:p>
                      <a:pPr>
                        <a:lnSpc>
                          <a:spcPts val="899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cc0000"/>
                          </a:solidFill>
                          <a:latin typeface="Times New Roman"/>
                          <a:ea typeface="Arial"/>
                        </a:rPr>
                        <a:t>Всего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А00-Т9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2440">
                <a:tc>
                  <a:txBody>
                    <a:bodyPr lIns="42480" rIns="42480" tIns="0" bIns="0" anchor="ctr">
                      <a:noAutofit/>
                    </a:bodyPr>
                    <a:p>
                      <a:pPr marL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некоторые инфекционные и паразитарные</a:t>
                      </a: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3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болезн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00-В9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42480" rIns="42480" tIns="0" bIns="0" anchor="ctr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ишечные инфекци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00-А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120">
                <a:tc>
                  <a:txBody>
                    <a:bodyPr lIns="42480" rIns="42480" tIns="0" bIns="0" anchor="ctr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уберкулез органов дыхан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15-A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42480" rIns="42480" tIns="0" bIns="0" anchor="ctr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нингококковая инфекц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3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68480">
                <a:tc>
                  <a:txBody>
                    <a:bodyPr lIns="42480" rIns="42480" tIns="0" bIns="0" anchor="ctr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пси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40-A4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4720">
                <a:tc>
                  <a:txBody>
                    <a:bodyPr lIns="42480" rIns="42480" tIns="0" bIns="0" anchor="ctr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фекции, передающиеся преимущественно половым путе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50-А6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42480" rIns="42480" tIns="0" bIns="0" anchor="ctr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трый полиомиели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8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480">
                <a:tc>
                  <a:txBody>
                    <a:bodyPr lIns="42480" rIns="42480" tIns="0" bIns="0" anchor="ctr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русный гепати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15-В1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120">
                <a:tc>
                  <a:txBody>
                    <a:bodyPr lIns="42480" rIns="42480" tIns="0" bIns="0" anchor="ctr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ь, вызванная ВИЧ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20-В2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98360">
                <a:tc>
                  <a:txBody>
                    <a:bodyPr lIns="42480" rIns="42480" tIns="0" bIns="0" anchor="ctr">
                      <a:noAutofit/>
                    </a:bodyPr>
                    <a:p>
                      <a:pPr marL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новообразования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00-D4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20">
                <a:tc>
                  <a:txBody>
                    <a:bodyPr lIns="42480" rIns="42480" tIns="0" bIns="0" anchor="ctr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локачественные новообразован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00-С9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080">
                <a:tc>
                  <a:txBody>
                    <a:bodyPr lIns="42480" rIns="42480" tIns="0" bIns="0" anchor="ctr">
                      <a:noAutofit/>
                    </a:bodyPr>
                    <a:p>
                      <a:pPr marL="8892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892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локачественные новообразования  лим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892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идной, кроветворной и родственных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892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 ткане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1.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81-С9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2440">
                <a:tc>
                  <a:txBody>
                    <a:bodyPr lIns="42480" rIns="42480" tIns="0" bIns="0" anchor="ctr">
                      <a:noAutofit/>
                    </a:bodyPr>
                    <a:p>
                      <a:pPr marL="17928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лликулярная (нодулярная)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ходжкинская лимфом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1.1.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8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4720">
                <a:tc>
                  <a:txBody>
                    <a:bodyPr lIns="42480" rIns="42480" tIns="0" bIns="0" anchor="ctr">
                      <a:noAutofit/>
                    </a:bodyPr>
                    <a:p>
                      <a:pPr marL="17928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лкоклеточная (диффузная)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ходжкинская лимфом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1.1.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83.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42480" rIns="42480" tIns="0" bIns="0" anchor="ctr">
                      <a:noAutofit/>
                    </a:bodyPr>
                    <a:p>
                      <a:pPr marL="17928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лкоклеточная с расщепленными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драми  (диффузная) неходжкинская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мфом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1.1.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83.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3280">
                <a:tc>
                  <a:txBody>
                    <a:bodyPr lIns="42480" rIns="42480" tIns="0" bIns="0" anchor="ctr">
                      <a:noAutofit/>
                    </a:bodyPr>
                    <a:p>
                      <a:pPr marL="17928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упноклеточная (диффузная)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ходжкинская лимфом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1.1.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83.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9" name=""/>
          <p:cNvGraphicFramePr/>
          <p:nvPr/>
        </p:nvGraphicFramePr>
        <p:xfrm>
          <a:off x="324000" y="928800"/>
          <a:ext cx="8569080" cy="5716440"/>
        </p:xfrm>
        <a:graphic>
          <a:graphicData uri="http://schemas.openxmlformats.org/drawingml/2006/table">
            <a:tbl>
              <a:tblPr/>
              <a:tblGrid>
                <a:gridCol w="3020760"/>
                <a:gridCol w="733680"/>
                <a:gridCol w="863280"/>
                <a:gridCol w="986040"/>
                <a:gridCol w="988920"/>
                <a:gridCol w="988920"/>
                <a:gridCol w="987480"/>
              </a:tblGrid>
              <a:tr h="217440">
                <a:tc rowSpan="4"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болезн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МКБ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пересмотр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. </a:t>
                      </a:r>
                      <a:r>
                        <a:rPr b="0" lang="en-US" sz="12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Дети (в возрасте 0-17 лет включительно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5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 ни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возраст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 1 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9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тологоанато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чески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крыт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тановле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хожден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агноз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6680"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8240">
                <a:tc>
                  <a:txBody>
                    <a:bodyPr lIns="43200" rIns="43200" tIns="0" bIns="0" anchor="ctr">
                      <a:noAutofit/>
                    </a:bodyPr>
                    <a:p>
                      <a:pPr>
                        <a:lnSpc>
                          <a:spcPts val="899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0000"/>
                          </a:solidFill>
                          <a:latin typeface="Times New Roman"/>
                          <a:ea typeface="Arial"/>
                        </a:rPr>
                        <a:t>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А00-Т9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7760">
                <a:tc>
                  <a:txBody>
                    <a:bodyPr lIns="43200" rIns="43200" tIns="0" bIns="0" anchor="ctr">
                      <a:noAutofit/>
                    </a:bodyPr>
                    <a:p>
                      <a:pPr marL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некоторые инфекционные и паразитарные болезн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00-В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920">
                <a:tc>
                  <a:txBody>
                    <a:bodyPr lIns="43200" rIns="43200" tIns="0" bIns="0" anchor="ctr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ишечные инфек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00-А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5280">
                <a:tc>
                  <a:txBody>
                    <a:bodyPr lIns="43200" rIns="43200" tIns="0" bIns="0" anchor="ctr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уберкулез органов дых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15-A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9040">
                <a:tc>
                  <a:txBody>
                    <a:bodyPr lIns="43200" rIns="43200" tIns="0" bIns="0" anchor="ctr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нингококковая инфекц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7080">
                <a:tc>
                  <a:txBody>
                    <a:bodyPr lIns="43200" rIns="43200" tIns="0" bIns="0" anchor="ctr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пси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40-A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7000">
                <a:tc>
                  <a:txBody>
                    <a:bodyPr lIns="43200" rIns="43200" tIns="0" bIns="0" anchor="ctr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фекции, передающиеся преимущественно половым путе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50-А6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5280">
                <a:tc>
                  <a:txBody>
                    <a:bodyPr lIns="43200" rIns="43200" tIns="0" bIns="0" anchor="ctr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трый полиомиели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5640">
                <a:tc>
                  <a:txBody>
                    <a:bodyPr lIns="43200" rIns="43200" tIns="0" bIns="0" anchor="ctr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русный гепати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15-В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0040">
                <a:tc>
                  <a:txBody>
                    <a:bodyPr lIns="43200" rIns="43200" tIns="0" bIns="0" anchor="ctr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ь, вызванная ВИЧ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20-В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480">
                <a:tc>
                  <a:txBody>
                    <a:bodyPr lIns="43200" rIns="43200" tIns="0" bIns="0" anchor="ctr">
                      <a:noAutofit/>
                    </a:bodyPr>
                    <a:p>
                      <a:pPr marL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новообразов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00-D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560">
                <a:tc>
                  <a:txBody>
                    <a:bodyPr lIns="43200" rIns="43200" tIns="0" bIns="0" anchor="ctr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локачественные новообразов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00-С9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5080">
                <a:tc>
                  <a:txBody>
                    <a:bodyPr lIns="43200" rIns="43200" tIns="0" bIns="0" anchor="ctr">
                      <a:noAutofit/>
                    </a:bodyPr>
                    <a:p>
                      <a:pPr marL="8892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892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локачественные новообразования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892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мфоидной, кроветворной и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892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дственных им ткан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1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81-С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200">
                <a:tc>
                  <a:txBody>
                    <a:bodyPr lIns="43200" rIns="43200" tIns="0" bIns="0" anchor="ctr">
                      <a:noAutofit/>
                    </a:bodyPr>
                    <a:p>
                      <a:pPr marL="17928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лликулярная (нодулярная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ходжкинская лимфом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1.1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8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560">
                <a:tc>
                  <a:txBody>
                    <a:bodyPr lIns="43200" rIns="43200" tIns="0" bIns="0" anchor="ctr">
                      <a:noAutofit/>
                    </a:bodyPr>
                    <a:p>
                      <a:pPr marL="17928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лкоклеточная (диффузная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ходжкинская лимфом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1.1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83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160">
                <a:tc>
                  <a:txBody>
                    <a:bodyPr lIns="43200" rIns="43200" tIns="0" bIns="0" anchor="ctr">
                      <a:noAutofit/>
                    </a:bodyPr>
                    <a:p>
                      <a:pPr marL="17928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лкоклеточная с расщепленными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драми  (диффузная) неходжкинска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мфом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1.1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83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560">
                <a:tc>
                  <a:txBody>
                    <a:bodyPr lIns="43200" rIns="43200" tIns="0" bIns="0" anchor="ctr">
                      <a:noAutofit/>
                    </a:bodyPr>
                    <a:p>
                      <a:pPr marL="17928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упноклеточная (диффузная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ходжкинская лимфом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1.1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83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920">
                <a:tc>
                  <a:txBody>
                    <a:bodyPr lIns="43200" rIns="43200" tIns="0" bIns="0" anchor="ctr">
                      <a:noAutofit/>
                    </a:bodyPr>
                    <a:p>
                      <a:pPr marL="17928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мунобластная (диффузная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ходжкинская лимфом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1.1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83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0" name="Rectangle 1"/>
          <p:cNvSpPr/>
          <p:nvPr/>
        </p:nvSpPr>
        <p:spPr>
          <a:xfrm>
            <a:off x="714240" y="153360"/>
            <a:ext cx="7786800" cy="9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32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2000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долж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Arial"/>
              </a:rPr>
              <a:t>Форма 3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Таблица 5500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«Прижизненные патологоанатомические исследования»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3200" spc="-1" strike="noStrike" u="sng">
                <a:solidFill>
                  <a:srgbClr val="990000"/>
                </a:solidFill>
                <a:uFillTx/>
                <a:latin typeface="Arial"/>
              </a:rPr>
              <a:t>не заполнят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Таблица 5501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труктура прижизненных патологоанатомических и цитологических диагностических исследований по категориям сложности» - </a:t>
            </a:r>
            <a:r>
              <a:rPr b="1" lang="en-US" sz="3200" spc="-1" strike="noStrike" u="sng">
                <a:solidFill>
                  <a:srgbClr val="990000"/>
                </a:solidFill>
                <a:uFillTx/>
                <a:latin typeface="Arial"/>
              </a:rPr>
              <a:t>не заполнят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3" name=""/>
          <p:cNvGraphicFramePr/>
          <p:nvPr/>
        </p:nvGraphicFramePr>
        <p:xfrm>
          <a:off x="357120" y="1195560"/>
          <a:ext cx="8358120" cy="5607000"/>
        </p:xfrm>
        <a:graphic>
          <a:graphicData uri="http://schemas.openxmlformats.org/drawingml/2006/table">
            <a:tbl>
              <a:tblPr/>
              <a:tblGrid>
                <a:gridCol w="5840640"/>
                <a:gridCol w="502920"/>
                <a:gridCol w="1008360"/>
                <a:gridCol w="1006200"/>
              </a:tblGrid>
              <a:tr h="914400"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п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крепленным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цински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изация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5360">
                <a:tc>
                  <a:txBody>
                    <a:bodyPr lIns="38880" rIns="388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5360">
                <a:tc>
                  <a:txBody>
                    <a:bodyPr lIns="38880" rIns="388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направлений на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жизненные патологоанатомические исследования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38880" rIns="388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ациентов, которым выполнены прижизненные патологоанатомические исследовани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38880" rIns="38880" tIns="0" bIns="0" anchor="ctr">
                      <a:noAutofit/>
                    </a:bodyPr>
                    <a:p>
                      <a:pPr marL="290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по направлениям из поликлиник, амбулатор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lIns="38880" rIns="388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ациентов, которым проведены повторные прижизненные патологоанатомические исследовани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6080">
                <a:tc>
                  <a:txBody>
                    <a:bodyPr lIns="38880" rIns="388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исследованных послед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38880" rIns="388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направлений на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жизненные гистохимические диагностические исследования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9280">
                <a:tc>
                  <a:txBody>
                    <a:bodyPr lIns="38880" rIns="388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ациентов, которым выполнены прижизненные гистохимические диагностические исследования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38880" rIns="38880" tIns="0" bIns="0" anchor="ctr">
                      <a:noAutofit/>
                    </a:bodyPr>
                    <a:p>
                      <a:pPr marL="290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по направлениям из поликлиник, амбулатор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lIns="38880" rIns="388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ациентов, которым проведены повторные прижизненные гистохимические исследовани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38880" rIns="388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направлений на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жизненные иммуногистохимические диагностические исследования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38880" rIns="388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ациентов, которым выполнены прижизненные иммуногистохимические диагностические исследовани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6080">
                <a:tc>
                  <a:txBody>
                    <a:bodyPr lIns="38880" rIns="38880" tIns="0" bIns="0" anchor="ctr">
                      <a:noAutofit/>
                    </a:bodyPr>
                    <a:p>
                      <a:pPr marL="290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по направлениям из поликлиник, амбулатор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38880" rIns="388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ациентов, которым проведены повторные прижизненные иммуногистохимические исследовани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4" name="Rectangle 1"/>
          <p:cNvSpPr/>
          <p:nvPr/>
        </p:nvSpPr>
        <p:spPr>
          <a:xfrm>
            <a:off x="428760" y="43560"/>
            <a:ext cx="8786520" cy="12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cc0000"/>
                </a:solidFill>
                <a:uFillTx/>
                <a:latin typeface="Arial"/>
              </a:rPr>
              <a:t>Форма 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19. Деятельность патологоанатомического бюро (отделения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жизненные патологоанатомические диагностические исследования операционного и биопсийного материал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0000"/>
                </a:solidFill>
                <a:latin typeface="Arial"/>
              </a:rPr>
              <a:t>                                            </a:t>
            </a:r>
            <a:r>
              <a:rPr b="1" lang="ru-RU" sz="1600" spc="-1" strike="noStrike">
                <a:solidFill>
                  <a:srgbClr val="cc0000"/>
                </a:solidFill>
                <a:latin typeface="Arial Black"/>
                <a:ea typeface="Times New Roman"/>
              </a:rPr>
              <a:t>(5500</a:t>
            </a:r>
            <a:r>
              <a:rPr b="1" lang="ru-RU" sz="1600" spc="-1" strike="noStrike">
                <a:solidFill>
                  <a:srgbClr val="cc0000"/>
                </a:solidFill>
                <a:latin typeface="Arial Black"/>
              </a:rPr>
              <a:t> – НЕ ЗАПОЛНЯТЬ!!!)</a:t>
            </a:r>
            <a:r>
              <a:rPr b="0" lang="ru-RU" sz="1600" spc="-1" strike="noStrike">
                <a:solidFill>
                  <a:srgbClr val="cc0000"/>
                </a:solidFill>
                <a:latin typeface="Arial Black"/>
                <a:ea typeface="Times New Roman"/>
              </a:rPr>
              <a:t>	</a:t>
            </a:r>
            <a:r>
              <a:rPr b="0" lang="ru-RU" sz="1400" spc="-1" strike="noStrike">
                <a:solidFill>
                  <a:srgbClr val="cc0000"/>
                </a:solidFill>
                <a:latin typeface="Arial"/>
                <a:ea typeface="Times New Roman"/>
              </a:rPr>
              <a:t>	</a:t>
            </a:r>
            <a:r>
              <a:rPr b="0" lang="ru-RU" sz="1400" spc="-1" strike="noStrike">
                <a:solidFill>
                  <a:srgbClr val="cc0000"/>
                </a:solidFill>
                <a:latin typeface="Arial"/>
                <a:ea typeface="Times New Roman"/>
              </a:rPr>
              <a:t>	</a:t>
            </a:r>
            <a:r>
              <a:rPr b="0" lang="ru-RU" sz="1400" spc="-1" strike="noStrike">
                <a:solidFill>
                  <a:srgbClr val="cc0000"/>
                </a:solidFill>
                <a:latin typeface="Arial"/>
                <a:ea typeface="Times New Roman"/>
              </a:rPr>
              <a:t>	</a:t>
            </a:r>
            <a:r>
              <a:rPr b="0" lang="ru-RU" sz="1400" spc="-1" strike="noStrike">
                <a:solidFill>
                  <a:srgbClr val="cc0000"/>
                </a:solidFill>
                <a:latin typeface="Arial"/>
                <a:ea typeface="Times New Roman"/>
              </a:rPr>
              <a:t>	</a:t>
            </a:r>
            <a:r>
              <a:rPr b="0" lang="ru-RU" sz="1400" spc="-1" strike="noStrike">
                <a:solidFill>
                  <a:srgbClr val="cc0000"/>
                </a:solidFill>
                <a:latin typeface="Arial"/>
                <a:ea typeface="Times New Roman"/>
              </a:rPr>
              <a:t>	</a:t>
            </a:r>
            <a:r>
              <a:rPr b="0" lang="ru-RU" sz="1400" spc="-1" strike="noStrike">
                <a:solidFill>
                  <a:srgbClr val="cc0000"/>
                </a:solidFill>
                <a:latin typeface="Arial"/>
                <a:ea typeface="Times New Roman"/>
              </a:rPr>
              <a:t>	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89"/>
          <p:cNvSpPr/>
          <p:nvPr/>
        </p:nvSpPr>
        <p:spPr>
          <a:xfrm>
            <a:off x="179280" y="1125360"/>
            <a:ext cx="8713800" cy="554364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90"/>
          <p:cNvSpPr/>
          <p:nvPr/>
        </p:nvSpPr>
        <p:spPr>
          <a:xfrm flipH="1">
            <a:off x="179280" y="907920"/>
            <a:ext cx="8640720" cy="576108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7" name=""/>
          <p:cNvGraphicFramePr/>
          <p:nvPr/>
        </p:nvGraphicFramePr>
        <p:xfrm>
          <a:off x="214200" y="714240"/>
          <a:ext cx="8715600" cy="6088320"/>
        </p:xfrm>
        <a:graphic>
          <a:graphicData uri="http://schemas.openxmlformats.org/drawingml/2006/table">
            <a:tbl>
              <a:tblPr/>
              <a:tblGrid>
                <a:gridCol w="6089760"/>
                <a:gridCol w="525600"/>
                <a:gridCol w="1050840"/>
                <a:gridCol w="1049400"/>
              </a:tblGrid>
              <a:tr h="427320">
                <a:tc>
                  <a:txBody>
                    <a:bodyPr lIns="38880" rIns="388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направлений на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жизненные генетические диагностические исследования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38880" rIns="388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ациентов, которым выполнены прижизненные генетические диагностические исследовани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1680">
                <a:tc>
                  <a:txBody>
                    <a:bodyPr lIns="38880" rIns="38880" tIns="0" bIns="0" anchor="ctr">
                      <a:noAutofit/>
                    </a:bodyPr>
                    <a:p>
                      <a:pPr marL="290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по направлениям из поликлиник, амбулатор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38880" rIns="388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ациентов, которым проведены повторные прижизненные генетические исследовани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1680">
                <a:tc>
                  <a:txBody>
                    <a:bodyPr lIns="38880" rIns="38880" tIns="0" bIns="0" anchor="ctr">
                      <a:noAutofit/>
                    </a:bodyPr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направлений на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жизненные молекулярно-биологические диагностические исследования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1680">
                <a:tc>
                  <a:txBody>
                    <a:bodyPr lIns="38880" rIns="38880" tIns="0" bIns="0" anchor="ctr">
                      <a:noAutofit/>
                    </a:bodyPr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ациентов, которым выполнены прижизненные молекулярно-биологические исследовани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1680">
                <a:tc>
                  <a:txBody>
                    <a:bodyPr lIns="38880" rIns="38880" tIns="0" bIns="0" anchor="ctr">
                      <a:noAutofit/>
                    </a:bodyPr>
                    <a:p>
                      <a:pPr marL="29052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по направлениям из поликлиник, амбулатор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1680">
                <a:tc>
                  <a:txBody>
                    <a:bodyPr lIns="38880" rIns="38880" tIns="0" bIns="0" anchor="ctr">
                      <a:noAutofit/>
                    </a:bodyPr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ациентов, которым проведены повторные прижизненные молекулярно-биологические исследовани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8320">
                <a:tc>
                  <a:txBody>
                    <a:bodyPr lIns="38880" rIns="38880" tIns="0" bIns="0" anchor="ctr">
                      <a:noAutofit/>
                    </a:bodyPr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направлений на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е прижизненные дополнительные специальные диагностические исследов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8680">
                <a:tc>
                  <a:txBody>
                    <a:bodyPr lIns="38880" rIns="38880" tIns="0" bIns="0" anchor="ctr">
                      <a:noAutofit/>
                    </a:bodyPr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ациентов, которым выполнены прочие прижизненные дополнительные специальные диагностические исследов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1680">
                <a:tc>
                  <a:txBody>
                    <a:bodyPr lIns="38880" rIns="38880" tIns="0" bIns="0" anchor="ctr">
                      <a:noAutofit/>
                    </a:bodyPr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по направлениям из поликлиник, амбулаторий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8320">
                <a:tc>
                  <a:txBody>
                    <a:bodyPr lIns="38880" rIns="38880" tIns="0" bIns="0" anchor="ctr">
                      <a:noAutofit/>
                    </a:bodyPr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ациентов, которым проведены повторные другие прижизненные дополнительные специальные исследовани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0240">
                <a:tc>
                  <a:txBody>
                    <a:bodyPr lIns="38880" rIns="38880" tIns="0" bIns="0" anchor="ctr">
                      <a:noAutofit/>
                    </a:bodyPr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направлений на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жизненные цитологические диагностические исследов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9880">
                <a:tc>
                  <a:txBody>
                    <a:bodyPr lIns="38880" rIns="38880" tIns="0" bIns="0" anchor="ctr">
                      <a:noAutofit/>
                    </a:bodyPr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ациентов, которым выполнены прижизненные цитологические диагностические исследов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1680">
                <a:tc>
                  <a:txBody>
                    <a:bodyPr lIns="38880" rIns="38880" tIns="0" bIns="0" anchor="ctr">
                      <a:noAutofit/>
                    </a:bodyPr>
                    <a:p>
                      <a:pPr marL="29052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по направлениям из поликлиник, амбулатор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0240">
                <a:tc>
                  <a:txBody>
                    <a:bodyPr lIns="38880" rIns="38880" tIns="0" bIns="0" anchor="ctr">
                      <a:noAutofit/>
                    </a:bodyPr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ациентов, которым проведены повторные прижизненные цитологические исследовани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8" name="Line 91"/>
          <p:cNvSpPr/>
          <p:nvPr/>
        </p:nvSpPr>
        <p:spPr>
          <a:xfrm>
            <a:off x="250920" y="404640"/>
            <a:ext cx="8642160" cy="61200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92"/>
          <p:cNvSpPr/>
          <p:nvPr/>
        </p:nvSpPr>
        <p:spPr>
          <a:xfrm flipH="1">
            <a:off x="468000" y="333360"/>
            <a:ext cx="8280360" cy="62643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93"/>
          <p:cNvSpPr/>
          <p:nvPr/>
        </p:nvSpPr>
        <p:spPr>
          <a:xfrm>
            <a:off x="3131640" y="160200"/>
            <a:ext cx="275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Не заполня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Дмитрий</dc:creator>
  <dc:description/>
  <dc:language>en-US</dc:language>
  <cp:lastModifiedBy>User</cp:lastModifiedBy>
  <dcterms:modified xsi:type="dcterms:W3CDTF">2018-12-20T08:33:40Z</dcterms:modified>
  <cp:revision>68</cp:revision>
  <dc:subject/>
  <dc:title>Слайд 1</dc:title>
</cp:coreProperties>
</file>